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859440" y="131760"/>
            <a:ext cx="2271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id Beaver 011 SD’94 4/94 </a:t>
            </a:r>
            <a:fld id="{DA31C53C-236B-4E0E-9AA2-5A9504E2838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659040" y="733320"/>
            <a:ext cx="4859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riting Win32</a:t>
            </a:r>
            <a:r>
              <a:rPr b="1" lang="en-US" sz="4000" spc="-1" strike="noStrike" baseline="45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pplications For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659040" y="4059360"/>
            <a:ext cx="495936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avid Be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er Relations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765600" y="5983200"/>
            <a:ext cx="3868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6560" y="1521000"/>
            <a:ext cx="28130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216000"/>
            <a:ext cx="8381880" cy="16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0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Open Services Architecture:  Transparent Access To Heterogeneous Serv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8160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056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54320" y="1981080"/>
            <a:ext cx="2728800" cy="3571920"/>
          </a:xfrm>
          <a:prstGeom prst="rect">
            <a:avLst/>
          </a:pr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40" y="214200"/>
            <a:ext cx="817236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96080" y="271620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99400" y="271476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824520" y="3287880"/>
            <a:ext cx="9748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905360" y="5006880"/>
            <a:ext cx="215424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are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ya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NE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048440" y="4952880"/>
            <a:ext cx="1646640" cy="1243440"/>
            <a:chOff x="7048440" y="4952880"/>
            <a:chExt cx="1646640" cy="1243440"/>
          </a:xfrm>
        </p:grpSpPr>
        <p:sp>
          <p:nvSpPr>
            <p:cNvPr id="69" name=""/>
            <p:cNvSpPr/>
            <p:nvPr/>
          </p:nvSpPr>
          <p:spPr>
            <a:xfrm>
              <a:off x="7475400" y="54244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0" y="195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88080" y="5424480"/>
              <a:ext cx="71640" cy="70200"/>
            </a:xfrm>
            <a:custGeom>
              <a:avLst/>
              <a:gdLst/>
              <a:ahLst/>
              <a:rect l="0" t="0" r="r" b="b"/>
              <a:pathLst>
                <a:path w="199" h="195">
                  <a:moveTo>
                    <a:pt x="0" y="195"/>
                  </a:moveTo>
                  <a:lnTo>
                    <a:pt x="0" y="0"/>
                  </a:lnTo>
                  <a:lnTo>
                    <a:pt x="199" y="0"/>
                  </a:lnTo>
                  <a:lnTo>
                    <a:pt x="199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96080" y="5424480"/>
              <a:ext cx="73440" cy="70200"/>
            </a:xfrm>
            <a:custGeom>
              <a:avLst/>
              <a:gdLst/>
              <a:ahLst/>
              <a:rect l="0" t="0" r="r" b="b"/>
              <a:pathLst>
                <a:path w="204" h="195">
                  <a:moveTo>
                    <a:pt x="0" y="195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42160" y="5597640"/>
              <a:ext cx="584640" cy="176400"/>
            </a:xfrm>
            <a:custGeom>
              <a:avLst/>
              <a:gdLst/>
              <a:ahLst/>
              <a:rect l="0" t="0" r="r" b="b"/>
              <a:pathLst>
                <a:path w="1624" h="490">
                  <a:moveTo>
                    <a:pt x="93" y="0"/>
                  </a:moveTo>
                  <a:lnTo>
                    <a:pt x="1469" y="17"/>
                  </a:lnTo>
                  <a:lnTo>
                    <a:pt x="1624" y="490"/>
                  </a:lnTo>
                  <a:lnTo>
                    <a:pt x="0" y="49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42160" y="5786280"/>
              <a:ext cx="584640" cy="3600"/>
            </a:xfrm>
            <a:custGeom>
              <a:avLst/>
              <a:gdLst/>
              <a:ahLst/>
              <a:rect l="0" t="0" r="r" b="b"/>
              <a:pathLst>
                <a:path w="1624" h="10">
                  <a:moveTo>
                    <a:pt x="1624" y="0"/>
                  </a:moveTo>
                  <a:lnTo>
                    <a:pt x="162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2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97680" y="5594400"/>
              <a:ext cx="27288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58280" y="5078520"/>
              <a:ext cx="33840" cy="565560"/>
            </a:xfrm>
            <a:custGeom>
              <a:avLst/>
              <a:gdLst/>
              <a:ahLst/>
              <a:rect l="0" t="0" r="r" b="b"/>
              <a:pathLst>
                <a:path w="94" h="1571">
                  <a:moveTo>
                    <a:pt x="67" y="0"/>
                  </a:moveTo>
                  <a:lnTo>
                    <a:pt x="0" y="49"/>
                  </a:lnTo>
                  <a:lnTo>
                    <a:pt x="0" y="1326"/>
                  </a:lnTo>
                  <a:lnTo>
                    <a:pt x="94" y="157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23080" y="5075280"/>
              <a:ext cx="687600" cy="624240"/>
            </a:xfrm>
            <a:custGeom>
              <a:avLst/>
              <a:gdLst/>
              <a:ahLst/>
              <a:rect l="0" t="0" r="r" b="b"/>
              <a:pathLst>
                <a:path w="1910" h="1734">
                  <a:moveTo>
                    <a:pt x="1910" y="1548"/>
                  </a:moveTo>
                  <a:lnTo>
                    <a:pt x="0" y="1734"/>
                  </a:lnTo>
                  <a:lnTo>
                    <a:pt x="0" y="80"/>
                  </a:lnTo>
                  <a:lnTo>
                    <a:pt x="1910" y="0"/>
                  </a:lnTo>
                  <a:lnTo>
                    <a:pt x="1910" y="15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78880" y="5097600"/>
              <a:ext cx="554400" cy="500400"/>
            </a:xfrm>
            <a:custGeom>
              <a:avLst/>
              <a:gdLst/>
              <a:ahLst/>
              <a:rect l="0" t="0" r="r" b="b"/>
              <a:pathLst>
                <a:path w="1540" h="1390">
                  <a:moveTo>
                    <a:pt x="1485" y="0"/>
                  </a:moveTo>
                  <a:lnTo>
                    <a:pt x="1491" y="12"/>
                  </a:lnTo>
                  <a:lnTo>
                    <a:pt x="1491" y="18"/>
                  </a:lnTo>
                  <a:lnTo>
                    <a:pt x="1497" y="30"/>
                  </a:lnTo>
                  <a:lnTo>
                    <a:pt x="1497" y="48"/>
                  </a:lnTo>
                  <a:lnTo>
                    <a:pt x="1503" y="67"/>
                  </a:lnTo>
                  <a:lnTo>
                    <a:pt x="1503" y="91"/>
                  </a:lnTo>
                  <a:lnTo>
                    <a:pt x="1516" y="116"/>
                  </a:lnTo>
                  <a:lnTo>
                    <a:pt x="1516" y="152"/>
                  </a:lnTo>
                  <a:lnTo>
                    <a:pt x="1522" y="183"/>
                  </a:lnTo>
                  <a:lnTo>
                    <a:pt x="1522" y="226"/>
                  </a:lnTo>
                  <a:lnTo>
                    <a:pt x="1522" y="263"/>
                  </a:lnTo>
                  <a:lnTo>
                    <a:pt x="1534" y="305"/>
                  </a:lnTo>
                  <a:lnTo>
                    <a:pt x="1534" y="348"/>
                  </a:lnTo>
                  <a:lnTo>
                    <a:pt x="1534" y="397"/>
                  </a:lnTo>
                  <a:lnTo>
                    <a:pt x="1534" y="434"/>
                  </a:lnTo>
                  <a:lnTo>
                    <a:pt x="1534" y="495"/>
                  </a:lnTo>
                  <a:lnTo>
                    <a:pt x="1540" y="538"/>
                  </a:lnTo>
                  <a:lnTo>
                    <a:pt x="1540" y="587"/>
                  </a:lnTo>
                  <a:lnTo>
                    <a:pt x="1540" y="648"/>
                  </a:lnTo>
                  <a:lnTo>
                    <a:pt x="1540" y="691"/>
                  </a:lnTo>
                  <a:lnTo>
                    <a:pt x="1540" y="747"/>
                  </a:lnTo>
                  <a:lnTo>
                    <a:pt x="1534" y="796"/>
                  </a:lnTo>
                  <a:lnTo>
                    <a:pt x="1534" y="839"/>
                  </a:lnTo>
                  <a:lnTo>
                    <a:pt x="1534" y="894"/>
                  </a:lnTo>
                  <a:lnTo>
                    <a:pt x="1534" y="937"/>
                  </a:lnTo>
                  <a:lnTo>
                    <a:pt x="1534" y="986"/>
                  </a:lnTo>
                  <a:lnTo>
                    <a:pt x="1522" y="1022"/>
                  </a:lnTo>
                  <a:lnTo>
                    <a:pt x="1522" y="1065"/>
                  </a:lnTo>
                  <a:lnTo>
                    <a:pt x="1522" y="1102"/>
                  </a:lnTo>
                  <a:lnTo>
                    <a:pt x="1516" y="1139"/>
                  </a:lnTo>
                  <a:lnTo>
                    <a:pt x="1516" y="1169"/>
                  </a:lnTo>
                  <a:lnTo>
                    <a:pt x="1503" y="1188"/>
                  </a:lnTo>
                  <a:lnTo>
                    <a:pt x="1503" y="1224"/>
                  </a:lnTo>
                  <a:lnTo>
                    <a:pt x="1497" y="1237"/>
                  </a:lnTo>
                  <a:lnTo>
                    <a:pt x="1491" y="1255"/>
                  </a:lnTo>
                  <a:lnTo>
                    <a:pt x="1491" y="1267"/>
                  </a:lnTo>
                  <a:lnTo>
                    <a:pt x="1454" y="1279"/>
                  </a:lnTo>
                  <a:lnTo>
                    <a:pt x="1423" y="1292"/>
                  </a:lnTo>
                  <a:lnTo>
                    <a:pt x="1404" y="1298"/>
                  </a:lnTo>
                  <a:lnTo>
                    <a:pt x="1379" y="1298"/>
                  </a:lnTo>
                  <a:lnTo>
                    <a:pt x="1361" y="1304"/>
                  </a:lnTo>
                  <a:lnTo>
                    <a:pt x="1311" y="1310"/>
                  </a:lnTo>
                  <a:lnTo>
                    <a:pt x="1298" y="1310"/>
                  </a:lnTo>
                  <a:lnTo>
                    <a:pt x="1255" y="1316"/>
                  </a:lnTo>
                  <a:lnTo>
                    <a:pt x="1224" y="1328"/>
                  </a:lnTo>
                  <a:lnTo>
                    <a:pt x="1181" y="1328"/>
                  </a:lnTo>
                  <a:lnTo>
                    <a:pt x="1149" y="1334"/>
                  </a:lnTo>
                  <a:lnTo>
                    <a:pt x="1105" y="1334"/>
                  </a:lnTo>
                  <a:lnTo>
                    <a:pt x="1068" y="1341"/>
                  </a:lnTo>
                  <a:lnTo>
                    <a:pt x="1024" y="1341"/>
                  </a:lnTo>
                  <a:lnTo>
                    <a:pt x="987" y="1347"/>
                  </a:lnTo>
                  <a:lnTo>
                    <a:pt x="944" y="1347"/>
                  </a:lnTo>
                  <a:lnTo>
                    <a:pt x="907" y="1353"/>
                  </a:lnTo>
                  <a:lnTo>
                    <a:pt x="863" y="1353"/>
                  </a:lnTo>
                  <a:lnTo>
                    <a:pt x="826" y="1371"/>
                  </a:lnTo>
                  <a:lnTo>
                    <a:pt x="782" y="1371"/>
                  </a:lnTo>
                  <a:lnTo>
                    <a:pt x="745" y="1371"/>
                  </a:lnTo>
                  <a:lnTo>
                    <a:pt x="702" y="1371"/>
                  </a:lnTo>
                  <a:lnTo>
                    <a:pt x="665" y="1377"/>
                  </a:lnTo>
                  <a:lnTo>
                    <a:pt x="621" y="1377"/>
                  </a:lnTo>
                  <a:lnTo>
                    <a:pt x="584" y="1377"/>
                  </a:lnTo>
                  <a:lnTo>
                    <a:pt x="540" y="1377"/>
                  </a:lnTo>
                  <a:lnTo>
                    <a:pt x="503" y="1377"/>
                  </a:lnTo>
                  <a:lnTo>
                    <a:pt x="460" y="1383"/>
                  </a:lnTo>
                  <a:lnTo>
                    <a:pt x="422" y="1383"/>
                  </a:lnTo>
                  <a:lnTo>
                    <a:pt x="378" y="1383"/>
                  </a:lnTo>
                  <a:lnTo>
                    <a:pt x="341" y="1383"/>
                  </a:lnTo>
                  <a:lnTo>
                    <a:pt x="297" y="1390"/>
                  </a:lnTo>
                  <a:lnTo>
                    <a:pt x="260" y="1383"/>
                  </a:lnTo>
                  <a:lnTo>
                    <a:pt x="217" y="1383"/>
                  </a:lnTo>
                  <a:lnTo>
                    <a:pt x="173" y="1383"/>
                  </a:lnTo>
                  <a:lnTo>
                    <a:pt x="136" y="1377"/>
                  </a:lnTo>
                  <a:lnTo>
                    <a:pt x="93" y="1377"/>
                  </a:lnTo>
                  <a:lnTo>
                    <a:pt x="55" y="1377"/>
                  </a:lnTo>
                  <a:lnTo>
                    <a:pt x="49" y="1353"/>
                  </a:lnTo>
                  <a:lnTo>
                    <a:pt x="49" y="1347"/>
                  </a:lnTo>
                  <a:lnTo>
                    <a:pt x="43" y="1341"/>
                  </a:lnTo>
                  <a:lnTo>
                    <a:pt x="37" y="1328"/>
                  </a:lnTo>
                  <a:lnTo>
                    <a:pt x="37" y="1310"/>
                  </a:lnTo>
                  <a:lnTo>
                    <a:pt x="24" y="1292"/>
                  </a:lnTo>
                  <a:lnTo>
                    <a:pt x="24" y="1261"/>
                  </a:lnTo>
                  <a:lnTo>
                    <a:pt x="12" y="1237"/>
                  </a:lnTo>
                  <a:lnTo>
                    <a:pt x="12" y="1200"/>
                  </a:lnTo>
                  <a:lnTo>
                    <a:pt x="12" y="1169"/>
                  </a:lnTo>
                  <a:lnTo>
                    <a:pt x="6" y="1133"/>
                  </a:lnTo>
                  <a:lnTo>
                    <a:pt x="6" y="1090"/>
                  </a:lnTo>
                  <a:lnTo>
                    <a:pt x="6" y="1053"/>
                  </a:lnTo>
                  <a:lnTo>
                    <a:pt x="0" y="1010"/>
                  </a:lnTo>
                  <a:lnTo>
                    <a:pt x="0" y="961"/>
                  </a:lnTo>
                  <a:lnTo>
                    <a:pt x="0" y="912"/>
                  </a:lnTo>
                  <a:lnTo>
                    <a:pt x="0" y="857"/>
                  </a:lnTo>
                  <a:lnTo>
                    <a:pt x="0" y="814"/>
                  </a:lnTo>
                  <a:lnTo>
                    <a:pt x="0" y="759"/>
                  </a:lnTo>
                  <a:lnTo>
                    <a:pt x="0" y="716"/>
                  </a:lnTo>
                  <a:lnTo>
                    <a:pt x="0" y="660"/>
                  </a:lnTo>
                  <a:lnTo>
                    <a:pt x="0" y="611"/>
                  </a:lnTo>
                  <a:lnTo>
                    <a:pt x="0" y="569"/>
                  </a:lnTo>
                  <a:lnTo>
                    <a:pt x="0" y="507"/>
                  </a:lnTo>
                  <a:lnTo>
                    <a:pt x="0" y="465"/>
                  </a:lnTo>
                  <a:lnTo>
                    <a:pt x="0" y="422"/>
                  </a:lnTo>
                  <a:lnTo>
                    <a:pt x="6" y="373"/>
                  </a:lnTo>
                  <a:lnTo>
                    <a:pt x="6" y="336"/>
                  </a:lnTo>
                  <a:lnTo>
                    <a:pt x="6" y="293"/>
                  </a:lnTo>
                  <a:lnTo>
                    <a:pt x="12" y="257"/>
                  </a:lnTo>
                  <a:lnTo>
                    <a:pt x="12" y="226"/>
                  </a:lnTo>
                  <a:lnTo>
                    <a:pt x="12" y="189"/>
                  </a:lnTo>
                  <a:lnTo>
                    <a:pt x="24" y="159"/>
                  </a:lnTo>
                  <a:lnTo>
                    <a:pt x="24" y="140"/>
                  </a:lnTo>
                  <a:lnTo>
                    <a:pt x="37" y="110"/>
                  </a:lnTo>
                  <a:lnTo>
                    <a:pt x="37" y="97"/>
                  </a:lnTo>
                  <a:lnTo>
                    <a:pt x="43" y="79"/>
                  </a:lnTo>
                  <a:lnTo>
                    <a:pt x="49" y="73"/>
                  </a:lnTo>
                  <a:lnTo>
                    <a:pt x="49" y="67"/>
                  </a:lnTo>
                  <a:lnTo>
                    <a:pt x="55" y="67"/>
                  </a:lnTo>
                  <a:lnTo>
                    <a:pt x="1485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91400" y="5035680"/>
              <a:ext cx="719640" cy="55800"/>
            </a:xfrm>
            <a:custGeom>
              <a:avLst/>
              <a:gdLst/>
              <a:ahLst/>
              <a:rect l="0" t="0" r="r" b="b"/>
              <a:pathLst>
                <a:path w="1999" h="155">
                  <a:moveTo>
                    <a:pt x="1999" y="88"/>
                  </a:moveTo>
                  <a:lnTo>
                    <a:pt x="1874" y="0"/>
                  </a:lnTo>
                  <a:lnTo>
                    <a:pt x="0" y="61"/>
                  </a:lnTo>
                  <a:lnTo>
                    <a:pt x="87" y="155"/>
                  </a:lnTo>
                  <a:lnTo>
                    <a:pt x="1999" y="8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91400" y="5062680"/>
              <a:ext cx="18000" cy="636840"/>
            </a:xfrm>
            <a:custGeom>
              <a:avLst/>
              <a:gdLst/>
              <a:ahLst/>
              <a:rect l="0" t="0" r="r" b="b"/>
              <a:pathLst>
                <a:path w="50" h="1769">
                  <a:moveTo>
                    <a:pt x="0" y="0"/>
                  </a:moveTo>
                  <a:lnTo>
                    <a:pt x="50" y="111"/>
                  </a:lnTo>
                  <a:lnTo>
                    <a:pt x="50" y="1769"/>
                  </a:lnTo>
                  <a:lnTo>
                    <a:pt x="0" y="1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69280" y="5075280"/>
              <a:ext cx="41760" cy="562320"/>
            </a:xfrm>
            <a:custGeom>
              <a:avLst/>
              <a:gdLst/>
              <a:ahLst/>
              <a:rect l="0" t="0" r="r" b="b"/>
              <a:pathLst>
                <a:path w="116" h="1562">
                  <a:moveTo>
                    <a:pt x="116" y="0"/>
                  </a:moveTo>
                  <a:lnTo>
                    <a:pt x="0" y="86"/>
                  </a:lnTo>
                  <a:lnTo>
                    <a:pt x="0" y="1401"/>
                  </a:lnTo>
                  <a:lnTo>
                    <a:pt x="116" y="156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23080" y="5589720"/>
              <a:ext cx="687600" cy="109800"/>
            </a:xfrm>
            <a:custGeom>
              <a:avLst/>
              <a:gdLst/>
              <a:ahLst/>
              <a:rect l="0" t="0" r="r" b="b"/>
              <a:pathLst>
                <a:path w="1910" h="305">
                  <a:moveTo>
                    <a:pt x="1910" y="135"/>
                  </a:moveTo>
                  <a:lnTo>
                    <a:pt x="1760" y="0"/>
                  </a:lnTo>
                  <a:lnTo>
                    <a:pt x="150" y="135"/>
                  </a:lnTo>
                  <a:lnTo>
                    <a:pt x="0" y="305"/>
                  </a:lnTo>
                  <a:lnTo>
                    <a:pt x="1910" y="1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23080" y="5103720"/>
              <a:ext cx="44640" cy="595800"/>
            </a:xfrm>
            <a:custGeom>
              <a:avLst/>
              <a:gdLst/>
              <a:ahLst/>
              <a:rect l="0" t="0" r="r" b="b"/>
              <a:pathLst>
                <a:path w="124" h="1655">
                  <a:moveTo>
                    <a:pt x="0" y="1655"/>
                  </a:moveTo>
                  <a:lnTo>
                    <a:pt x="124" y="1470"/>
                  </a:lnTo>
                  <a:lnTo>
                    <a:pt x="124" y="74"/>
                  </a:lnTo>
                  <a:lnTo>
                    <a:pt x="0" y="0"/>
                  </a:lnTo>
                  <a:lnTo>
                    <a:pt x="0" y="165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10480" y="5075280"/>
              <a:ext cx="703800" cy="44640"/>
            </a:xfrm>
            <a:custGeom>
              <a:avLst/>
              <a:gdLst/>
              <a:ahLst/>
              <a:rect l="0" t="0" r="r" b="b"/>
              <a:pathLst>
                <a:path w="1955" h="124">
                  <a:moveTo>
                    <a:pt x="0" y="61"/>
                  </a:moveTo>
                  <a:lnTo>
                    <a:pt x="150" y="124"/>
                  </a:lnTo>
                  <a:lnTo>
                    <a:pt x="1798" y="67"/>
                  </a:lnTo>
                  <a:lnTo>
                    <a:pt x="195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65960" y="5064120"/>
              <a:ext cx="271800" cy="918000"/>
            </a:xfrm>
            <a:custGeom>
              <a:avLst/>
              <a:gdLst/>
              <a:ahLst/>
              <a:rect l="0" t="0" r="r" b="b"/>
              <a:pathLst>
                <a:path w="755" h="2550">
                  <a:moveTo>
                    <a:pt x="755" y="0"/>
                  </a:moveTo>
                  <a:lnTo>
                    <a:pt x="755" y="2271"/>
                  </a:lnTo>
                  <a:lnTo>
                    <a:pt x="0" y="2550"/>
                  </a:lnTo>
                  <a:lnTo>
                    <a:pt x="0" y="99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48440" y="4952880"/>
              <a:ext cx="589320" cy="136800"/>
            </a:xfrm>
            <a:custGeom>
              <a:avLst/>
              <a:gdLst/>
              <a:ahLst/>
              <a:rect l="0" t="0" r="r" b="b"/>
              <a:pathLst>
                <a:path w="1637" h="380">
                  <a:moveTo>
                    <a:pt x="1637" y="282"/>
                  </a:moveTo>
                  <a:lnTo>
                    <a:pt x="758" y="0"/>
                  </a:lnTo>
                  <a:lnTo>
                    <a:pt x="0" y="86"/>
                  </a:lnTo>
                  <a:lnTo>
                    <a:pt x="865" y="380"/>
                  </a:lnTo>
                  <a:lnTo>
                    <a:pt x="1637" y="28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48440" y="4986360"/>
              <a:ext cx="305280" cy="995760"/>
            </a:xfrm>
            <a:custGeom>
              <a:avLst/>
              <a:gdLst/>
              <a:ahLst/>
              <a:rect l="0" t="0" r="r" b="b"/>
              <a:pathLst>
                <a:path w="848" h="2766">
                  <a:moveTo>
                    <a:pt x="848" y="304"/>
                  </a:moveTo>
                  <a:lnTo>
                    <a:pt x="0" y="0"/>
                  </a:lnTo>
                  <a:lnTo>
                    <a:pt x="0" y="2282"/>
                  </a:lnTo>
                  <a:lnTo>
                    <a:pt x="848" y="2766"/>
                  </a:lnTo>
                  <a:lnTo>
                    <a:pt x="848" y="304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92960" y="5478480"/>
              <a:ext cx="221040" cy="192600"/>
            </a:xfrm>
            <a:custGeom>
              <a:avLst/>
              <a:gdLst/>
              <a:ahLst/>
              <a:rect l="0" t="0" r="r" b="b"/>
              <a:pathLst>
                <a:path w="614" h="535">
                  <a:moveTo>
                    <a:pt x="614" y="0"/>
                  </a:moveTo>
                  <a:lnTo>
                    <a:pt x="614" y="366"/>
                  </a:lnTo>
                  <a:lnTo>
                    <a:pt x="0" y="535"/>
                  </a:lnTo>
                  <a:lnTo>
                    <a:pt x="0" y="144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92960" y="5278320"/>
              <a:ext cx="221040" cy="186120"/>
            </a:xfrm>
            <a:custGeom>
              <a:avLst/>
              <a:gdLst/>
              <a:ahLst/>
              <a:rect l="0" t="0" r="r" b="b"/>
              <a:pathLst>
                <a:path w="614" h="517">
                  <a:moveTo>
                    <a:pt x="614" y="0"/>
                  </a:moveTo>
                  <a:lnTo>
                    <a:pt x="614" y="362"/>
                  </a:lnTo>
                  <a:lnTo>
                    <a:pt x="0" y="517"/>
                  </a:lnTo>
                  <a:lnTo>
                    <a:pt x="0" y="112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3000" y="527688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0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5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92960" y="5423040"/>
              <a:ext cx="230400" cy="54360"/>
            </a:xfrm>
            <a:custGeom>
              <a:avLst/>
              <a:gdLst/>
              <a:ahLst/>
              <a:rect l="0" t="0" r="r" b="b"/>
              <a:pathLst>
                <a:path w="640" h="151">
                  <a:moveTo>
                    <a:pt x="640" y="19"/>
                  </a:moveTo>
                  <a:lnTo>
                    <a:pt x="616" y="0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64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12040" y="5429160"/>
              <a:ext cx="236880" cy="68760"/>
            </a:xfrm>
            <a:custGeom>
              <a:avLst/>
              <a:gdLst/>
              <a:ahLst/>
              <a:rect l="0" t="0" r="r" b="b"/>
              <a:pathLst>
                <a:path w="658" h="191">
                  <a:moveTo>
                    <a:pt x="621" y="0"/>
                  </a:moveTo>
                  <a:lnTo>
                    <a:pt x="658" y="57"/>
                  </a:lnTo>
                  <a:lnTo>
                    <a:pt x="30" y="191"/>
                  </a:lnTo>
                  <a:lnTo>
                    <a:pt x="0" y="123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12040" y="5457960"/>
              <a:ext cx="236880" cy="60840"/>
            </a:xfrm>
            <a:custGeom>
              <a:avLst/>
              <a:gdLst/>
              <a:ahLst/>
              <a:rect l="0" t="0" r="r" b="b"/>
              <a:pathLst>
                <a:path w="658" h="169">
                  <a:moveTo>
                    <a:pt x="658" y="0"/>
                  </a:moveTo>
                  <a:lnTo>
                    <a:pt x="621" y="35"/>
                  </a:lnTo>
                  <a:lnTo>
                    <a:pt x="0" y="169"/>
                  </a:lnTo>
                  <a:lnTo>
                    <a:pt x="30" y="122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10600" y="548496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5" y="0"/>
                  </a:moveTo>
                  <a:lnTo>
                    <a:pt x="0" y="47"/>
                  </a:lnTo>
                  <a:lnTo>
                    <a:pt x="5" y="9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3000" y="547524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11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65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2960" y="5622840"/>
              <a:ext cx="230400" cy="60840"/>
            </a:xfrm>
            <a:custGeom>
              <a:avLst/>
              <a:gdLst/>
              <a:ahLst/>
              <a:rect l="0" t="0" r="r" b="b"/>
              <a:pathLst>
                <a:path w="640" h="169">
                  <a:moveTo>
                    <a:pt x="616" y="0"/>
                  </a:moveTo>
                  <a:lnTo>
                    <a:pt x="640" y="25"/>
                  </a:lnTo>
                  <a:lnTo>
                    <a:pt x="0" y="169"/>
                  </a:lnTo>
                  <a:lnTo>
                    <a:pt x="0" y="134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42280" y="51274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332" y="0"/>
                  </a:moveTo>
                  <a:lnTo>
                    <a:pt x="304" y="51"/>
                  </a:lnTo>
                  <a:lnTo>
                    <a:pt x="332" y="91"/>
                  </a:lnTo>
                  <a:lnTo>
                    <a:pt x="0" y="147"/>
                  </a:lnTo>
                  <a:lnTo>
                    <a:pt x="0" y="41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91520" y="5135400"/>
              <a:ext cx="232200" cy="41760"/>
            </a:xfrm>
            <a:custGeom>
              <a:avLst/>
              <a:gdLst/>
              <a:ahLst/>
              <a:rect l="0" t="0" r="r" b="b"/>
              <a:pathLst>
                <a:path w="645" h="116">
                  <a:moveTo>
                    <a:pt x="645" y="0"/>
                  </a:moveTo>
                  <a:lnTo>
                    <a:pt x="0" y="83"/>
                  </a:lnTo>
                  <a:lnTo>
                    <a:pt x="0" y="116"/>
                  </a:lnTo>
                  <a:lnTo>
                    <a:pt x="645" y="22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12748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0" y="85"/>
                  </a:lnTo>
                  <a:lnTo>
                    <a:pt x="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7640" y="5137200"/>
              <a:ext cx="216360" cy="38520"/>
            </a:xfrm>
            <a:custGeom>
              <a:avLst/>
              <a:gdLst/>
              <a:ahLst/>
              <a:rect l="0" t="0" r="r" b="b"/>
              <a:pathLst>
                <a:path w="601" h="107">
                  <a:moveTo>
                    <a:pt x="601" y="0"/>
                  </a:moveTo>
                  <a:lnTo>
                    <a:pt x="0" y="88"/>
                  </a:lnTo>
                  <a:lnTo>
                    <a:pt x="0" y="107"/>
                  </a:lnTo>
                  <a:lnTo>
                    <a:pt x="601" y="9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6000" y="5889600"/>
              <a:ext cx="18000" cy="51120"/>
            </a:xfrm>
            <a:custGeom>
              <a:avLst/>
              <a:gdLst/>
              <a:ahLst/>
              <a:rect l="0" t="0" r="r" b="b"/>
              <a:pathLst>
                <a:path w="50" h="142">
                  <a:moveTo>
                    <a:pt x="50" y="106"/>
                  </a:moveTo>
                  <a:lnTo>
                    <a:pt x="0" y="142"/>
                  </a:lnTo>
                  <a:lnTo>
                    <a:pt x="50" y="0"/>
                  </a:lnTo>
                  <a:lnTo>
                    <a:pt x="50" y="10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91360" y="5864400"/>
              <a:ext cx="62280" cy="76680"/>
            </a:xfrm>
            <a:custGeom>
              <a:avLst/>
              <a:gdLst/>
              <a:ahLst/>
              <a:rect l="0" t="0" r="r" b="b"/>
              <a:pathLst>
                <a:path w="173" h="213">
                  <a:moveTo>
                    <a:pt x="173" y="55"/>
                  </a:moveTo>
                  <a:lnTo>
                    <a:pt x="105" y="213"/>
                  </a:lnTo>
                  <a:lnTo>
                    <a:pt x="0" y="142"/>
                  </a:lnTo>
                  <a:lnTo>
                    <a:pt x="63" y="0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02440" y="5821200"/>
              <a:ext cx="18000" cy="43200"/>
            </a:xfrm>
            <a:custGeom>
              <a:avLst/>
              <a:gdLst/>
              <a:ahLst/>
              <a:rect l="0" t="0" r="r" b="b"/>
              <a:pathLst>
                <a:path w="50" h="120">
                  <a:moveTo>
                    <a:pt x="50" y="88"/>
                  </a:moveTo>
                  <a:lnTo>
                    <a:pt x="0" y="120"/>
                  </a:lnTo>
                  <a:lnTo>
                    <a:pt x="50" y="0"/>
                  </a:lnTo>
                  <a:lnTo>
                    <a:pt x="50" y="8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67520" y="580248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40"/>
                  </a:moveTo>
                  <a:lnTo>
                    <a:pt x="81" y="173"/>
                  </a:lnTo>
                  <a:lnTo>
                    <a:pt x="0" y="112"/>
                  </a:lnTo>
                  <a:lnTo>
                    <a:pt x="61" y="0"/>
                  </a:lnTo>
                  <a:lnTo>
                    <a:pt x="147" y="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62720" y="5699160"/>
              <a:ext cx="275040" cy="97200"/>
            </a:xfrm>
            <a:custGeom>
              <a:avLst/>
              <a:gdLst/>
              <a:ahLst/>
              <a:rect l="0" t="0" r="r" b="b"/>
              <a:pathLst>
                <a:path w="764" h="270">
                  <a:moveTo>
                    <a:pt x="764" y="44"/>
                  </a:moveTo>
                  <a:lnTo>
                    <a:pt x="12" y="270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62720" y="567864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9"/>
                  </a:moveTo>
                  <a:lnTo>
                    <a:pt x="0" y="266"/>
                  </a:lnTo>
                  <a:lnTo>
                    <a:pt x="12" y="216"/>
                  </a:lnTo>
                  <a:lnTo>
                    <a:pt x="764" y="0"/>
                  </a:lnTo>
                  <a:lnTo>
                    <a:pt x="752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62720" y="5738760"/>
              <a:ext cx="275040" cy="105120"/>
            </a:xfrm>
            <a:custGeom>
              <a:avLst/>
              <a:gdLst/>
              <a:ahLst/>
              <a:rect l="0" t="0" r="r" b="b"/>
              <a:pathLst>
                <a:path w="764" h="292">
                  <a:moveTo>
                    <a:pt x="764" y="55"/>
                  </a:moveTo>
                  <a:lnTo>
                    <a:pt x="12" y="292"/>
                  </a:lnTo>
                  <a:lnTo>
                    <a:pt x="0" y="224"/>
                  </a:lnTo>
                  <a:lnTo>
                    <a:pt x="752" y="0"/>
                  </a:lnTo>
                  <a:lnTo>
                    <a:pt x="764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62720" y="57196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0"/>
                  </a:moveTo>
                  <a:lnTo>
                    <a:pt x="0" y="266"/>
                  </a:lnTo>
                  <a:lnTo>
                    <a:pt x="12" y="209"/>
                  </a:lnTo>
                  <a:lnTo>
                    <a:pt x="764" y="0"/>
                  </a:lnTo>
                  <a:lnTo>
                    <a:pt x="752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62720" y="57862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64" y="38"/>
                  </a:moveTo>
                  <a:lnTo>
                    <a:pt x="12" y="266"/>
                  </a:lnTo>
                  <a:lnTo>
                    <a:pt x="0" y="211"/>
                  </a:lnTo>
                  <a:lnTo>
                    <a:pt x="752" y="0"/>
                  </a:lnTo>
                  <a:lnTo>
                    <a:pt x="764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62720" y="5759280"/>
              <a:ext cx="275040" cy="101880"/>
            </a:xfrm>
            <a:custGeom>
              <a:avLst/>
              <a:gdLst/>
              <a:ahLst/>
              <a:rect l="0" t="0" r="r" b="b"/>
              <a:pathLst>
                <a:path w="764" h="283">
                  <a:moveTo>
                    <a:pt x="752" y="55"/>
                  </a:moveTo>
                  <a:lnTo>
                    <a:pt x="0" y="283"/>
                  </a:lnTo>
                  <a:lnTo>
                    <a:pt x="12" y="227"/>
                  </a:lnTo>
                  <a:lnTo>
                    <a:pt x="764" y="0"/>
                  </a:lnTo>
                  <a:lnTo>
                    <a:pt x="752" y="5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2720" y="5827680"/>
              <a:ext cx="275040" cy="98640"/>
            </a:xfrm>
            <a:custGeom>
              <a:avLst/>
              <a:gdLst/>
              <a:ahLst/>
              <a:rect l="0" t="0" r="r" b="b"/>
              <a:pathLst>
                <a:path w="764" h="274">
                  <a:moveTo>
                    <a:pt x="764" y="43"/>
                  </a:moveTo>
                  <a:lnTo>
                    <a:pt x="12" y="274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2720" y="5803920"/>
              <a:ext cx="275040" cy="100440"/>
            </a:xfrm>
            <a:custGeom>
              <a:avLst/>
              <a:gdLst/>
              <a:ahLst/>
              <a:rect l="0" t="0" r="r" b="b"/>
              <a:pathLst>
                <a:path w="764" h="279">
                  <a:moveTo>
                    <a:pt x="752" y="44"/>
                  </a:moveTo>
                  <a:lnTo>
                    <a:pt x="0" y="279"/>
                  </a:lnTo>
                  <a:lnTo>
                    <a:pt x="12" y="224"/>
                  </a:lnTo>
                  <a:lnTo>
                    <a:pt x="764" y="0"/>
                  </a:lnTo>
                  <a:lnTo>
                    <a:pt x="752" y="4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2040" y="5222880"/>
              <a:ext cx="236880" cy="59040"/>
            </a:xfrm>
            <a:custGeom>
              <a:avLst/>
              <a:gdLst/>
              <a:ahLst/>
              <a:rect l="0" t="0" r="r" b="b"/>
              <a:pathLst>
                <a:path w="658" h="164">
                  <a:moveTo>
                    <a:pt x="621" y="0"/>
                  </a:moveTo>
                  <a:lnTo>
                    <a:pt x="658" y="63"/>
                  </a:lnTo>
                  <a:lnTo>
                    <a:pt x="30" y="164"/>
                  </a:lnTo>
                  <a:lnTo>
                    <a:pt x="0" y="95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12040" y="5256360"/>
              <a:ext cx="236880" cy="46440"/>
            </a:xfrm>
            <a:custGeom>
              <a:avLst/>
              <a:gdLst/>
              <a:ahLst/>
              <a:rect l="0" t="0" r="r" b="b"/>
              <a:pathLst>
                <a:path w="658" h="129">
                  <a:moveTo>
                    <a:pt x="658" y="0"/>
                  </a:moveTo>
                  <a:lnTo>
                    <a:pt x="621" y="38"/>
                  </a:lnTo>
                  <a:lnTo>
                    <a:pt x="0" y="129"/>
                  </a:lnTo>
                  <a:lnTo>
                    <a:pt x="30" y="86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10600" y="5264280"/>
              <a:ext cx="1800" cy="38520"/>
            </a:xfrm>
            <a:custGeom>
              <a:avLst/>
              <a:gdLst/>
              <a:ahLst/>
              <a:rect l="0" t="0" r="r" b="b"/>
              <a:pathLst>
                <a:path w="5" h="107">
                  <a:moveTo>
                    <a:pt x="5" y="0"/>
                  </a:moveTo>
                  <a:lnTo>
                    <a:pt x="0" y="58"/>
                  </a:lnTo>
                  <a:lnTo>
                    <a:pt x="5" y="10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48440" y="5591160"/>
              <a:ext cx="601920" cy="174960"/>
            </a:xfrm>
            <a:custGeom>
              <a:avLst/>
              <a:gdLst/>
              <a:ahLst/>
              <a:rect l="0" t="0" r="r" b="b"/>
              <a:pathLst>
                <a:path fill="none" w="1672" h="486">
                  <a:moveTo>
                    <a:pt x="1672" y="239"/>
                  </a:moveTo>
                  <a:lnTo>
                    <a:pt x="877" y="48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8440" y="5137200"/>
              <a:ext cx="601920" cy="141480"/>
            </a:xfrm>
            <a:custGeom>
              <a:avLst/>
              <a:gdLst/>
              <a:ahLst/>
              <a:rect l="0" t="0" r="r" b="b"/>
              <a:pathLst>
                <a:path fill="none" w="1672" h="393">
                  <a:moveTo>
                    <a:pt x="1672" y="237"/>
                  </a:moveTo>
                  <a:lnTo>
                    <a:pt x="884" y="39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13560" y="5815080"/>
              <a:ext cx="1175040" cy="352800"/>
            </a:xfrm>
            <a:custGeom>
              <a:avLst/>
              <a:gdLst/>
              <a:ahLst/>
              <a:rect l="0" t="0" r="r" b="b"/>
              <a:pathLst>
                <a:path w="3264" h="980">
                  <a:moveTo>
                    <a:pt x="2880" y="0"/>
                  </a:moveTo>
                  <a:lnTo>
                    <a:pt x="0" y="188"/>
                  </a:lnTo>
                  <a:lnTo>
                    <a:pt x="226" y="980"/>
                  </a:lnTo>
                  <a:lnTo>
                    <a:pt x="3264" y="700"/>
                  </a:lnTo>
                  <a:lnTo>
                    <a:pt x="288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90080" y="6026040"/>
              <a:ext cx="79560" cy="28800"/>
            </a:xfrm>
            <a:custGeom>
              <a:avLst/>
              <a:gdLst/>
              <a:ahLst/>
              <a:rect l="0" t="0" r="r" b="b"/>
              <a:pathLst>
                <a:path w="221" h="80">
                  <a:moveTo>
                    <a:pt x="221" y="0"/>
                  </a:moveTo>
                  <a:lnTo>
                    <a:pt x="196" y="43"/>
                  </a:lnTo>
                  <a:lnTo>
                    <a:pt x="0" y="80"/>
                  </a:lnTo>
                  <a:lnTo>
                    <a:pt x="18" y="2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59720" y="5940360"/>
              <a:ext cx="709920" cy="181440"/>
            </a:xfrm>
            <a:custGeom>
              <a:avLst/>
              <a:gdLst/>
              <a:ahLst/>
              <a:rect l="0" t="0" r="r" b="b"/>
              <a:pathLst>
                <a:path w="1972" h="504">
                  <a:moveTo>
                    <a:pt x="1844" y="0"/>
                  </a:moveTo>
                  <a:lnTo>
                    <a:pt x="0" y="132"/>
                  </a:lnTo>
                  <a:lnTo>
                    <a:pt x="89" y="410"/>
                  </a:lnTo>
                  <a:lnTo>
                    <a:pt x="330" y="397"/>
                  </a:lnTo>
                  <a:lnTo>
                    <a:pt x="368" y="504"/>
                  </a:lnTo>
                  <a:lnTo>
                    <a:pt x="1832" y="365"/>
                  </a:lnTo>
                  <a:lnTo>
                    <a:pt x="1781" y="264"/>
                  </a:lnTo>
                  <a:lnTo>
                    <a:pt x="1972" y="239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83560" y="6076800"/>
              <a:ext cx="535320" cy="57600"/>
            </a:xfrm>
            <a:custGeom>
              <a:avLst/>
              <a:gdLst/>
              <a:ahLst/>
              <a:rect l="0" t="0" r="r" b="b"/>
              <a:pathLst>
                <a:path w="1487" h="160">
                  <a:moveTo>
                    <a:pt x="1487" y="0"/>
                  </a:moveTo>
                  <a:lnTo>
                    <a:pt x="1461" y="42"/>
                  </a:lnTo>
                  <a:lnTo>
                    <a:pt x="0" y="160"/>
                  </a:lnTo>
                  <a:lnTo>
                    <a:pt x="25" y="118"/>
                  </a:lnTo>
                  <a:lnTo>
                    <a:pt x="1487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69160" y="6086520"/>
              <a:ext cx="24120" cy="47880"/>
            </a:xfrm>
            <a:custGeom>
              <a:avLst/>
              <a:gdLst/>
              <a:ahLst/>
              <a:rect l="0" t="0" r="r" b="b"/>
              <a:pathLst>
                <a:path w="67" h="133">
                  <a:moveTo>
                    <a:pt x="19" y="0"/>
                  </a:moveTo>
                  <a:lnTo>
                    <a:pt x="67" y="93"/>
                  </a:lnTo>
                  <a:lnTo>
                    <a:pt x="34" y="133"/>
                  </a:lnTo>
                  <a:lnTo>
                    <a:pt x="0" y="3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89960" y="6086520"/>
              <a:ext cx="89280" cy="19440"/>
            </a:xfrm>
            <a:custGeom>
              <a:avLst/>
              <a:gdLst/>
              <a:ahLst/>
              <a:rect l="0" t="0" r="r" b="b"/>
              <a:pathLst>
                <a:path w="248" h="54">
                  <a:moveTo>
                    <a:pt x="248" y="0"/>
                  </a:moveTo>
                  <a:lnTo>
                    <a:pt x="223" y="36"/>
                  </a:lnTo>
                  <a:lnTo>
                    <a:pt x="0" y="54"/>
                  </a:lnTo>
                  <a:lnTo>
                    <a:pt x="12" y="5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1800" y="5991120"/>
              <a:ext cx="41760" cy="114840"/>
            </a:xfrm>
            <a:custGeom>
              <a:avLst/>
              <a:gdLst/>
              <a:ahLst/>
              <a:rect l="0" t="0" r="r" b="b"/>
              <a:pathLst>
                <a:path w="116" h="319">
                  <a:moveTo>
                    <a:pt x="116" y="268"/>
                  </a:moveTo>
                  <a:lnTo>
                    <a:pt x="97" y="319"/>
                  </a:lnTo>
                  <a:lnTo>
                    <a:pt x="0" y="38"/>
                  </a:lnTo>
                  <a:lnTo>
                    <a:pt x="19" y="0"/>
                  </a:lnTo>
                  <a:lnTo>
                    <a:pt x="116" y="26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93040" y="5915160"/>
              <a:ext cx="278280" cy="151200"/>
            </a:xfrm>
            <a:custGeom>
              <a:avLst/>
              <a:gdLst/>
              <a:ahLst/>
              <a:rect l="0" t="0" r="r" b="b"/>
              <a:pathLst>
                <a:path w="773" h="420">
                  <a:moveTo>
                    <a:pt x="576" y="0"/>
                  </a:moveTo>
                  <a:lnTo>
                    <a:pt x="773" y="357"/>
                  </a:lnTo>
                  <a:lnTo>
                    <a:pt x="164" y="420"/>
                  </a:lnTo>
                  <a:lnTo>
                    <a:pt x="0" y="57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48840" y="6043680"/>
              <a:ext cx="222480" cy="33840"/>
            </a:xfrm>
            <a:custGeom>
              <a:avLst/>
              <a:gdLst/>
              <a:ahLst/>
              <a:rect l="0" t="0" r="r" b="b"/>
              <a:pathLst>
                <a:path w="618" h="94">
                  <a:moveTo>
                    <a:pt x="618" y="0"/>
                  </a:moveTo>
                  <a:lnTo>
                    <a:pt x="605" y="31"/>
                  </a:lnTo>
                  <a:lnTo>
                    <a:pt x="0" y="94"/>
                  </a:lnTo>
                  <a:lnTo>
                    <a:pt x="6" y="6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9800" y="5934240"/>
              <a:ext cx="62280" cy="143280"/>
            </a:xfrm>
            <a:custGeom>
              <a:avLst/>
              <a:gdLst/>
              <a:ahLst/>
              <a:rect l="0" t="0" r="r" b="b"/>
              <a:pathLst>
                <a:path w="173" h="398">
                  <a:moveTo>
                    <a:pt x="173" y="366"/>
                  </a:moveTo>
                  <a:lnTo>
                    <a:pt x="161" y="398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73" y="36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02480" y="6076800"/>
              <a:ext cx="1092600" cy="119520"/>
            </a:xfrm>
            <a:custGeom>
              <a:avLst/>
              <a:gdLst/>
              <a:ahLst/>
              <a:rect l="0" t="0" r="r" b="b"/>
              <a:pathLst>
                <a:path w="3035" h="332">
                  <a:moveTo>
                    <a:pt x="3035" y="0"/>
                  </a:moveTo>
                  <a:lnTo>
                    <a:pt x="3035" y="72"/>
                  </a:lnTo>
                  <a:lnTo>
                    <a:pt x="0" y="332"/>
                  </a:lnTo>
                  <a:lnTo>
                    <a:pt x="0" y="247"/>
                  </a:lnTo>
                  <a:lnTo>
                    <a:pt x="303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24720" y="5884920"/>
              <a:ext cx="63720" cy="311400"/>
            </a:xfrm>
            <a:custGeom>
              <a:avLst/>
              <a:gdLst/>
              <a:ahLst/>
              <a:rect l="0" t="0" r="r" b="b"/>
              <a:pathLst>
                <a:path w="177" h="865">
                  <a:moveTo>
                    <a:pt x="0" y="0"/>
                  </a:moveTo>
                  <a:lnTo>
                    <a:pt x="0" y="235"/>
                  </a:lnTo>
                  <a:lnTo>
                    <a:pt x="177" y="865"/>
                  </a:lnTo>
                  <a:lnTo>
                    <a:pt x="177" y="7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21840" y="5932440"/>
              <a:ext cx="68040" cy="125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62880" y="5925960"/>
              <a:ext cx="61920" cy="128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97800" y="5923080"/>
              <a:ext cx="6660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37400" y="591984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72680" y="5915160"/>
              <a:ext cx="6336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405640" y="5934240"/>
              <a:ext cx="2098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418600" y="5965920"/>
              <a:ext cx="207720" cy="21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8434440" y="5994360"/>
              <a:ext cx="2095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447040" y="6018120"/>
              <a:ext cx="20808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59920" y="5843520"/>
              <a:ext cx="225720" cy="38520"/>
            </a:xfrm>
            <a:custGeom>
              <a:avLst/>
              <a:gdLst/>
              <a:ahLst/>
              <a:rect l="0" t="0" r="r" b="b"/>
              <a:pathLst>
                <a:path w="627" h="107">
                  <a:moveTo>
                    <a:pt x="588" y="0"/>
                  </a:moveTo>
                  <a:lnTo>
                    <a:pt x="627" y="60"/>
                  </a:lnTo>
                  <a:lnTo>
                    <a:pt x="38" y="107"/>
                  </a:lnTo>
                  <a:lnTo>
                    <a:pt x="0" y="40"/>
                  </a:lnTo>
                  <a:lnTo>
                    <a:pt x="588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58120" y="5861160"/>
              <a:ext cx="18000" cy="30600"/>
            </a:xfrm>
            <a:custGeom>
              <a:avLst/>
              <a:gdLst/>
              <a:ahLst/>
              <a:rect l="0" t="0" r="r" b="b"/>
              <a:pathLst>
                <a:path w="50" h="85">
                  <a:moveTo>
                    <a:pt x="50" y="54"/>
                  </a:moveTo>
                  <a:lnTo>
                    <a:pt x="6" y="0"/>
                  </a:lnTo>
                  <a:lnTo>
                    <a:pt x="0" y="30"/>
                  </a:lnTo>
                  <a:lnTo>
                    <a:pt x="28" y="85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69280" y="586440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12" y="38"/>
                  </a:lnTo>
                  <a:lnTo>
                    <a:pt x="0" y="76"/>
                  </a:lnTo>
                  <a:lnTo>
                    <a:pt x="588" y="32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6280" y="5859360"/>
              <a:ext cx="17640" cy="20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34440" y="5856120"/>
              <a:ext cx="9360" cy="24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67560" y="5856120"/>
              <a:ext cx="1116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04280" y="5846760"/>
              <a:ext cx="11160" cy="31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37400" y="5846760"/>
              <a:ext cx="1440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560" y="5891040"/>
              <a:ext cx="222480" cy="43200"/>
            </a:xfrm>
            <a:custGeom>
              <a:avLst/>
              <a:gdLst/>
              <a:ahLst/>
              <a:rect l="0" t="0" r="r" b="b"/>
              <a:pathLst>
                <a:path w="618" h="120">
                  <a:moveTo>
                    <a:pt x="580" y="0"/>
                  </a:moveTo>
                  <a:lnTo>
                    <a:pt x="618" y="76"/>
                  </a:lnTo>
                  <a:lnTo>
                    <a:pt x="31" y="120"/>
                  </a:lnTo>
                  <a:lnTo>
                    <a:pt x="0" y="5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6880" y="591012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45" y="64"/>
                  </a:moveTo>
                  <a:lnTo>
                    <a:pt x="12" y="0"/>
                  </a:lnTo>
                  <a:lnTo>
                    <a:pt x="0" y="25"/>
                  </a:lnTo>
                  <a:lnTo>
                    <a:pt x="32" y="10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8040" y="591984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6" y="38"/>
                  </a:lnTo>
                  <a:lnTo>
                    <a:pt x="0" y="76"/>
                  </a:lnTo>
                  <a:lnTo>
                    <a:pt x="588" y="25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58280" y="5907240"/>
              <a:ext cx="93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91400" y="5907240"/>
              <a:ext cx="144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26320" y="5900760"/>
              <a:ext cx="972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5920" y="5900760"/>
              <a:ext cx="504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00840" y="5892840"/>
              <a:ext cx="79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0160" y="5861160"/>
              <a:ext cx="224280" cy="39960"/>
            </a:xfrm>
            <a:custGeom>
              <a:avLst/>
              <a:gdLst/>
              <a:ahLst/>
              <a:rect l="0" t="0" r="r" b="b"/>
              <a:pathLst>
                <a:path w="623" h="111">
                  <a:moveTo>
                    <a:pt x="585" y="0"/>
                  </a:moveTo>
                  <a:lnTo>
                    <a:pt x="623" y="68"/>
                  </a:lnTo>
                  <a:lnTo>
                    <a:pt x="31" y="111"/>
                  </a:lnTo>
                  <a:lnTo>
                    <a:pt x="0" y="42"/>
                  </a:lnTo>
                  <a:lnTo>
                    <a:pt x="585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12240" y="5878440"/>
              <a:ext cx="19440" cy="32040"/>
            </a:xfrm>
            <a:custGeom>
              <a:avLst/>
              <a:gdLst/>
              <a:ahLst/>
              <a:rect l="0" t="0" r="r" b="b"/>
              <a:pathLst>
                <a:path w="54" h="89">
                  <a:moveTo>
                    <a:pt x="54" y="48"/>
                  </a:moveTo>
                  <a:lnTo>
                    <a:pt x="20" y="0"/>
                  </a:lnTo>
                  <a:lnTo>
                    <a:pt x="0" y="23"/>
                  </a:lnTo>
                  <a:lnTo>
                    <a:pt x="34" y="89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26280" y="5884920"/>
              <a:ext cx="217800" cy="25920"/>
            </a:xfrm>
            <a:custGeom>
              <a:avLst/>
              <a:gdLst/>
              <a:ahLst/>
              <a:rect l="0" t="0" r="r" b="b"/>
              <a:pathLst>
                <a:path w="605" h="72">
                  <a:moveTo>
                    <a:pt x="605" y="0"/>
                  </a:moveTo>
                  <a:lnTo>
                    <a:pt x="12" y="26"/>
                  </a:lnTo>
                  <a:lnTo>
                    <a:pt x="0" y="72"/>
                  </a:lnTo>
                  <a:lnTo>
                    <a:pt x="586" y="20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55080" y="5878440"/>
              <a:ext cx="1404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91440" y="5872320"/>
              <a:ext cx="126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23120" y="5864400"/>
              <a:ext cx="1584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58040" y="5862600"/>
              <a:ext cx="97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98000" y="5861160"/>
              <a:ext cx="936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70680" y="5878440"/>
              <a:ext cx="222480" cy="36720"/>
            </a:xfrm>
            <a:custGeom>
              <a:avLst/>
              <a:gdLst/>
              <a:ahLst/>
              <a:rect l="0" t="0" r="r" b="b"/>
              <a:pathLst>
                <a:path w="618" h="102">
                  <a:moveTo>
                    <a:pt x="586" y="0"/>
                  </a:moveTo>
                  <a:lnTo>
                    <a:pt x="618" y="66"/>
                  </a:lnTo>
                  <a:lnTo>
                    <a:pt x="31" y="102"/>
                  </a:lnTo>
                  <a:lnTo>
                    <a:pt x="0" y="35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62760" y="5891040"/>
              <a:ext cx="18000" cy="35280"/>
            </a:xfrm>
            <a:custGeom>
              <a:avLst/>
              <a:gdLst/>
              <a:ahLst/>
              <a:rect l="0" t="0" r="r" b="b"/>
              <a:pathLst>
                <a:path w="50" h="98">
                  <a:moveTo>
                    <a:pt x="50" y="61"/>
                  </a:moveTo>
                  <a:lnTo>
                    <a:pt x="17" y="0"/>
                  </a:lnTo>
                  <a:lnTo>
                    <a:pt x="0" y="30"/>
                  </a:lnTo>
                  <a:lnTo>
                    <a:pt x="33" y="98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8600" y="5900760"/>
              <a:ext cx="214560" cy="25920"/>
            </a:xfrm>
            <a:custGeom>
              <a:avLst/>
              <a:gdLst/>
              <a:ahLst/>
              <a:rect l="0" t="0" r="r" b="b"/>
              <a:pathLst>
                <a:path w="596" h="72">
                  <a:moveTo>
                    <a:pt x="596" y="0"/>
                  </a:moveTo>
                  <a:lnTo>
                    <a:pt x="6" y="36"/>
                  </a:lnTo>
                  <a:lnTo>
                    <a:pt x="0" y="72"/>
                  </a:lnTo>
                  <a:lnTo>
                    <a:pt x="583" y="24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99480" y="588960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0520" y="5884920"/>
              <a:ext cx="111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74000" y="5884920"/>
              <a:ext cx="1260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08920" y="588168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45280" y="5880240"/>
              <a:ext cx="1440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7696080" y="5991120"/>
              <a:ext cx="38160" cy="95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7778880" y="5981760"/>
              <a:ext cx="50760" cy="135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7818480" y="5981760"/>
              <a:ext cx="47520" cy="133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7854840" y="5973840"/>
              <a:ext cx="44640" cy="141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7888320" y="5973840"/>
              <a:ext cx="52200" cy="131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924680" y="5969160"/>
              <a:ext cx="58680" cy="1364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956720" y="5967360"/>
              <a:ext cx="6012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8001000" y="5967360"/>
              <a:ext cx="5724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8034480" y="5965920"/>
              <a:ext cx="5868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8067600" y="5959440"/>
              <a:ext cx="63720" cy="133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8102520" y="5959440"/>
              <a:ext cx="6660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8143920" y="5954760"/>
              <a:ext cx="63360" cy="129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8180280" y="595152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8213760" y="5948280"/>
              <a:ext cx="6660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8290080" y="5948280"/>
              <a:ext cx="42840" cy="82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742160" y="5983200"/>
              <a:ext cx="50760" cy="1382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8250120" y="5946840"/>
              <a:ext cx="68400" cy="123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674120" y="5967360"/>
              <a:ext cx="663480" cy="50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82040" y="5996160"/>
              <a:ext cx="67140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778880" y="6037200"/>
              <a:ext cx="522000" cy="49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6402240" y="1738440"/>
            <a:ext cx="113976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556240" y="174312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6483240" y="391788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705640" y="364500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5688000" y="4311720"/>
            <a:ext cx="8985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0" y="2536920"/>
            <a:ext cx="27446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Licen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tribute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93680" y="3138480"/>
            <a:ext cx="1562040" cy="1303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9360" y="4462560"/>
            <a:ext cx="2143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57480" y="6048360"/>
            <a:ext cx="49942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 heterogeneou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922480" y="2017800"/>
            <a:ext cx="1425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plication Cla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720" y="1739880"/>
            <a:ext cx="82440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have appropriately in networked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word processors, spreadsheet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dvantage of network services when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group calendar, multiuser edi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es on the network for fundamental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SQL Server applications, Lotus Not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480" y="266760"/>
            <a:ext cx="913140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“</a:t>
            </a:r>
            <a:r>
              <a:rPr b="1" i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hicago</a:t>
            </a: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” Network Architectur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4320" y="133200"/>
            <a:ext cx="8929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752560" y="2959200"/>
            <a:ext cx="216684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ing (SM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48280" y="2959200"/>
            <a:ext cx="218592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-compatible (N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790720" y="4545000"/>
            <a:ext cx="1300320" cy="10904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716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448160" y="4545000"/>
            <a:ext cx="120024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752560" y="3816360"/>
            <a:ext cx="256716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29280" y="4545000"/>
            <a:ext cx="114768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752560" y="1027080"/>
            <a:ext cx="274644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Windows network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54240" y="1081080"/>
            <a:ext cx="1327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54240" y="292896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r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38240" y="3710160"/>
            <a:ext cx="15429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393920" y="496728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46160" y="5772240"/>
            <a:ext cx="1504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752560" y="1528920"/>
            <a:ext cx="216684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 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672000" y="1854360"/>
            <a:ext cx="180036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86320" y="2073240"/>
            <a:ext cx="1862280" cy="35244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752560" y="5772240"/>
            <a:ext cx="4519440" cy="43812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1720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57280" y="1805040"/>
            <a:ext cx="1123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52560" y="2533680"/>
            <a:ext cx="4498920" cy="31896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S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443480" y="4083120"/>
            <a:ext cx="271944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33920" y="1027080"/>
            <a:ext cx="171756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int 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:  Basic Networ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519200" y="1919160"/>
            <a:ext cx="610560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compatibility with different network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adequate performance across different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cost of network setup and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298520" y="1947960"/>
            <a:ext cx="654696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C” names will frequently be passed to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use filenames or path to set current direct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parsing filenames except to extract last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NetAddConnection3 to automate connection to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s for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s remot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7960" y="2057400"/>
            <a:ext cx="8129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assume drive letter i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the file systems validate names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ing names requires carefu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File 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1739880"/>
            <a:ext cx="817416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files in appropriate sharing mode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better handling of multiuser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significant network performance optimiz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ange-locking for concurren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 good error-handling and prompting for locking confli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76240" y="1739880"/>
            <a:ext cx="739152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one interface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tting and cancelli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ing pr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 for local, server attached, or net attache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ss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14520" y="1739880"/>
            <a:ext cx="78152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your application for simple messaging (send docu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is included in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MAPI in Windows for Workgroups,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in “Chicago” and future Windows NT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drivers enable messaging over broad variety of mail back-e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ing The Common Dialo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01800" y="1246320"/>
            <a:ext cx="73422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dialogs available f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ave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users and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ommon dialogs provid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browsing, password prom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ialing for remot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ity on all supported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priate name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90520" y="1739880"/>
            <a:ext cx="67626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evelopment issue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network awar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networking 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low-Lin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57160" y="1739880"/>
            <a:ext cx="742968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twork link can be “fast” (LAN) or “slow” (remo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link type through WNet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dinal rules of slow link aware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 behavior based on link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feedback on length of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user to abort/resume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fficiency On Slow Lin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18960" y="1739880"/>
            <a:ext cx="85057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the amount of data to be trans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zy transfers (transfer only when you mu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link idle-time where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sswords And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28760" y="1739880"/>
            <a:ext cx="82868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Cache facility is key-based storage like Profiles, but encrypted and secured per-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per-user securing of documents, screen savers, etc. without extra promp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onnecting to back end with separate password, offer check box option to save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Setup Iss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92080" y="1739880"/>
            <a:ext cx="73594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 install-to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run-from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read-only from read/writ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a “laptop” hybrid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to network can be performe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 administrators to predefine appropriate user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gistry And Profile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22320" y="1739880"/>
            <a:ext cx="7300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 to use Profile APIs when porting 16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s are pre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aware of HKEY_CURRENT_USER and HKEY_LOCAL_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“per-user Profi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read/write directly to .INI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erformanc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98320" y="1739880"/>
            <a:ext cx="794844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measure bo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eiv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 data in largest block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block user on data trans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ogress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ancel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I:  Advanced </a:t>
            </a:r>
            <a:br>
              <a:rPr sz="4800"/>
            </a:b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ing Conce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90880" y="1994040"/>
            <a:ext cx="496260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oit the network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ing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And Brow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82800" y="1425600"/>
            <a:ext cx="717876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 network interfaces provide “generic” network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gramming model, reveals typing of obj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OpenEnum() returns handle to an enumeratio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EnumResource() enumerates the contents of an open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structure usage for simple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CloseEnum() when you’re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User Lis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1800" y="1739880"/>
            <a:ext cx="7880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provides simple container model for enum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 for common electronic-mail systems, NetWare bindery, Windows NT security databas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not only for messaging but also for security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22400" y="1739880"/>
            <a:ext cx="7101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full printer and job control locally an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submit jobs, cancel, pause, mov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enumerate queues,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manipulate que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oviders enforce appropriat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Environments Are Key To Grow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70000" y="2201760"/>
            <a:ext cx="68054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-50% of new hardware/software is sold into network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higher share in some software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“connected” has broadened - ISDN, 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692360" y="5546880"/>
            <a:ext cx="3306960" cy="641880"/>
          </a:xfrm>
          <a:custGeom>
            <a:avLst/>
            <a:gdLst/>
            <a:ahLst/>
            <a:rect l="0" t="0" r="r" b="b"/>
            <a:pathLst>
              <a:path fill="none" w="9186" h="1783">
                <a:moveTo>
                  <a:pt x="9186" y="0"/>
                </a:moveTo>
                <a:lnTo>
                  <a:pt x="7872" y="0"/>
                </a:lnTo>
                <a:lnTo>
                  <a:pt x="7872" y="1783"/>
                </a:lnTo>
                <a:lnTo>
                  <a:pt x="0" y="17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216240" y="469440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200400" y="362736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3170160"/>
            <a:ext cx="1706760" cy="2408760"/>
          </a:xfrm>
          <a:custGeom>
            <a:avLst/>
            <a:gdLst/>
            <a:ahLst/>
            <a:rect l="0" t="0" r="r" b="b"/>
            <a:pathLst>
              <a:path fill="none" w="4741" h="6691">
                <a:moveTo>
                  <a:pt x="4741" y="0"/>
                </a:moveTo>
                <a:lnTo>
                  <a:pt x="4741" y="0"/>
                </a:lnTo>
                <a:cubicBezTo>
                  <a:pt x="3909" y="0"/>
                  <a:pt x="3091" y="309"/>
                  <a:pt x="2370" y="896"/>
                </a:cubicBezTo>
                <a:cubicBezTo>
                  <a:pt x="1650" y="1484"/>
                  <a:pt x="1051" y="2328"/>
                  <a:pt x="635" y="3346"/>
                </a:cubicBezTo>
                <a:cubicBezTo>
                  <a:pt x="219" y="4363"/>
                  <a:pt x="0" y="5516"/>
                  <a:pt x="0" y="6691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855960" y="5273640"/>
            <a:ext cx="1203480" cy="258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30680" y="5548320"/>
            <a:ext cx="1800" cy="531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16640" y="3946680"/>
            <a:ext cx="0" cy="10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75480" y="2590920"/>
            <a:ext cx="0" cy="807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18080" y="3230640"/>
            <a:ext cx="1509480" cy="487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554120"/>
            <a:ext cx="0" cy="579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1279440"/>
            <a:ext cx="1143000" cy="777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24280" y="13716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55760" y="1387440"/>
            <a:ext cx="565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Printing 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7468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91916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622600" y="516888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5352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786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919160" y="2133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622600" y="2925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622600" y="40086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226120" y="20574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226120" y="33973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134040" y="4998960"/>
            <a:ext cx="139068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71192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0060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800600" y="60818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65040" y="5578560"/>
            <a:ext cx="1311120" cy="111276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16640" y="4403880"/>
            <a:ext cx="1295640" cy="579960"/>
          </a:xfrm>
          <a:custGeom>
            <a:avLst/>
            <a:gdLst/>
            <a:ahLst/>
            <a:rect l="0" t="0" r="r" b="b"/>
            <a:pathLst>
              <a:path fill="none" w="3599" h="1611">
                <a:moveTo>
                  <a:pt x="0" y="0"/>
                </a:moveTo>
                <a:lnTo>
                  <a:pt x="3599" y="0"/>
                </a:lnTo>
                <a:lnTo>
                  <a:pt x="3599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11920" y="4403880"/>
            <a:ext cx="1464120" cy="579960"/>
          </a:xfrm>
          <a:custGeom>
            <a:avLst/>
            <a:gdLst/>
            <a:ahLst/>
            <a:rect l="0" t="0" r="r" b="b"/>
            <a:pathLst>
              <a:path fill="none" w="4067" h="1611">
                <a:moveTo>
                  <a:pt x="0" y="0"/>
                </a:moveTo>
                <a:lnTo>
                  <a:pt x="0" y="0"/>
                </a:lnTo>
                <a:lnTo>
                  <a:pt x="4067" y="0"/>
                </a:lnTo>
                <a:lnTo>
                  <a:pt x="4067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39920" y="5181480"/>
            <a:ext cx="182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47600" y="1739880"/>
            <a:ext cx="7048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eley sockets API for Windows specified by ope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or protocol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open, close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packets in native protocol  (unlike NetBI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for TCP/IP (Win32 and Win16) and IPX/SPX (Win16 on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mote Procedure Calls (RPC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38040" y="1739880"/>
            <a:ext cx="84693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run times in Windows NT,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run times in Win32 SDK for 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 DCE compatible and interoperable - communicates with other RPCs such 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B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run existing code in distributed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cy (platform, transport, lo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raditional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71760" y="1728720"/>
            <a:ext cx="6000840" cy="447660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57680" y="4871880"/>
            <a:ext cx="33145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555768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28880" y="4338720"/>
            <a:ext cx="166680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43280" y="2357280"/>
            <a:ext cx="238608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3057480"/>
            <a:ext cx="33433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371484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200640" y="43387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210280" y="5176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210280" y="33814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09880" y="178596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193840" y="215100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148360" y="20239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24480" y="4033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210360" y="27241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680" y="1405080"/>
            <a:ext cx="1943280" cy="487692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95960" y="1328760"/>
            <a:ext cx="3276720" cy="48769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38560" y="3309840"/>
            <a:ext cx="198108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16640" y="3919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24760" y="26240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01080" y="42242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10360" y="5062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10360" y="33098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34040" y="18622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600520" y="3949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209000" y="26542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284960" y="42544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94600" y="5092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294600" y="33400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218280" y="18921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0996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474747"/>
              </a:gs>
              <a:gs pos="100000">
                <a:srgbClr val="6b6b6b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9104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104840" y="3919680"/>
            <a:ext cx="213372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62040" y="2090880"/>
            <a:ext cx="1676520" cy="1523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928960"/>
            <a:ext cx="1866960" cy="8380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3614760"/>
            <a:ext cx="1714680" cy="1522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85920" y="4071960"/>
            <a:ext cx="1952640" cy="6858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371600" y="4300560"/>
            <a:ext cx="1714680" cy="11430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143680" y="2166840"/>
            <a:ext cx="990360" cy="144792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219640" y="2928960"/>
            <a:ext cx="1905120" cy="9144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219640" y="3691080"/>
            <a:ext cx="990720" cy="30456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72120" y="4148280"/>
            <a:ext cx="423720" cy="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43680" y="4300560"/>
            <a:ext cx="205740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43680" y="4376880"/>
            <a:ext cx="1066680" cy="10666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04840" y="180504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89160" y="217008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76400" y="268200"/>
            <a:ext cx="6991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Glues 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96880" y="971640"/>
            <a:ext cx="7951680" cy="5602320"/>
            <a:chOff x="596880" y="971640"/>
            <a:chExt cx="7951680" cy="5602320"/>
          </a:xfrm>
        </p:grpSpPr>
        <p:grpSp>
          <p:nvGrpSpPr>
            <p:cNvPr id="346" name=""/>
            <p:cNvGrpSpPr/>
            <p:nvPr/>
          </p:nvGrpSpPr>
          <p:grpSpPr>
            <a:xfrm>
              <a:off x="3767040" y="3162240"/>
              <a:ext cx="565200" cy="1130400"/>
              <a:chOff x="3767040" y="3162240"/>
              <a:chExt cx="565200" cy="1130400"/>
            </a:xfrm>
          </p:grpSpPr>
          <p:sp>
            <p:nvSpPr>
              <p:cNvPr id="347" name=""/>
              <p:cNvSpPr/>
              <p:nvPr/>
            </p:nvSpPr>
            <p:spPr>
              <a:xfrm flipH="1">
                <a:off x="3878280" y="3162240"/>
                <a:ext cx="453960" cy="67968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78280" y="3841920"/>
                <a:ext cx="2271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3767040" y="3841920"/>
                <a:ext cx="338400" cy="45072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103480" y="3646440"/>
              <a:ext cx="610848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38520" y="1003320"/>
              <a:ext cx="4761000" cy="2270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46720" y="4170240"/>
              <a:ext cx="2301840" cy="2384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01760" y="4203720"/>
              <a:ext cx="4214880" cy="2292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998720" y="5230800"/>
              <a:ext cx="906840" cy="905400"/>
              <a:chOff x="1998720" y="5230800"/>
              <a:chExt cx="906840" cy="905400"/>
            </a:xfrm>
          </p:grpSpPr>
          <p:sp>
            <p:nvSpPr>
              <p:cNvPr id="355" name=""/>
              <p:cNvSpPr/>
              <p:nvPr/>
            </p:nvSpPr>
            <p:spPr>
              <a:xfrm>
                <a:off x="1998720" y="5230800"/>
                <a:ext cx="906840" cy="905400"/>
              </a:xfrm>
              <a:custGeom>
                <a:avLst/>
                <a:gdLst/>
                <a:ahLst/>
                <a:rect l="0" t="0" r="r" b="b"/>
                <a:pathLst>
                  <a:path w="2519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947" y="625"/>
                    </a:lnTo>
                    <a:lnTo>
                      <a:pt x="947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4" y="625"/>
                    </a:lnTo>
                    <a:lnTo>
                      <a:pt x="2204" y="0"/>
                    </a:lnTo>
                    <a:lnTo>
                      <a:pt x="2519" y="0"/>
                    </a:lnTo>
                    <a:lnTo>
                      <a:pt x="2519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21463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1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992400" y="5210280"/>
              <a:ext cx="905400" cy="905400"/>
              <a:chOff x="3992400" y="5210280"/>
              <a:chExt cx="905400" cy="905400"/>
            </a:xfrm>
          </p:grpSpPr>
          <p:sp>
            <p:nvSpPr>
              <p:cNvPr id="358" name=""/>
              <p:cNvSpPr/>
              <p:nvPr/>
            </p:nvSpPr>
            <p:spPr>
              <a:xfrm>
                <a:off x="3992400" y="521028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31" y="625"/>
                    </a:lnTo>
                    <a:lnTo>
                      <a:pt x="631" y="0"/>
                    </a:lnTo>
                    <a:lnTo>
                      <a:pt x="1257" y="0"/>
                    </a:lnTo>
                    <a:lnTo>
                      <a:pt x="1573" y="625"/>
                    </a:lnTo>
                    <a:lnTo>
                      <a:pt x="1889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4097160" y="561960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2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854760" y="5230800"/>
              <a:ext cx="905400" cy="905400"/>
              <a:chOff x="6854760" y="5230800"/>
              <a:chExt cx="905400" cy="905400"/>
            </a:xfrm>
          </p:grpSpPr>
          <p:sp>
            <p:nvSpPr>
              <p:cNvPr id="361" name=""/>
              <p:cNvSpPr/>
              <p:nvPr/>
            </p:nvSpPr>
            <p:spPr>
              <a:xfrm>
                <a:off x="6854760" y="523080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25" y="625"/>
                    </a:lnTo>
                    <a:lnTo>
                      <a:pt x="625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0" y="625"/>
                    </a:lnTo>
                    <a:lnTo>
                      <a:pt x="2200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70009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3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6513480" y="3162240"/>
              <a:ext cx="536760" cy="902160"/>
            </a:xfrm>
            <a:custGeom>
              <a:avLst/>
              <a:gdLst/>
              <a:ahLst/>
              <a:rect l="0" t="0" r="r" b="b"/>
              <a:pathLst>
                <a:path w="1491" h="2506">
                  <a:moveTo>
                    <a:pt x="1491" y="2506"/>
                  </a:moveTo>
                  <a:lnTo>
                    <a:pt x="592" y="1250"/>
                  </a:lnTo>
                  <a:lnTo>
                    <a:pt x="1190" y="1250"/>
                  </a:lnTo>
                  <a:lnTo>
                    <a:pt x="0" y="0"/>
                  </a:lnTo>
                  <a:lnTo>
                    <a:pt x="1190" y="1250"/>
                  </a:lnTo>
                  <a:lnTo>
                    <a:pt x="592" y="1250"/>
                  </a:lnTo>
                  <a:lnTo>
                    <a:pt x="1491" y="250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96880" y="346392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fafd00"/>
                  </a:solidFill>
                  <a:latin typeface="Arial"/>
                  <a:ea typeface="Arial"/>
                </a:rPr>
                <a:t>Network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2881440" y="609444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730920" y="618336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4687920" y="971640"/>
              <a:ext cx="873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84440" y="1317600"/>
              <a:ext cx="3279960" cy="946440"/>
            </a:xfrm>
            <a:custGeom>
              <a:avLst/>
              <a:gdLst/>
              <a:ahLst/>
              <a:rect l="0" t="0" r="r" b="b"/>
              <a:pathLst>
                <a:path w="9111" h="2629">
                  <a:moveTo>
                    <a:pt x="0" y="0"/>
                  </a:moveTo>
                  <a:lnTo>
                    <a:pt x="9111" y="0"/>
                  </a:lnTo>
                  <a:lnTo>
                    <a:pt x="9111" y="2032"/>
                  </a:lnTo>
                  <a:lnTo>
                    <a:pt x="8801" y="2032"/>
                  </a:lnTo>
                  <a:lnTo>
                    <a:pt x="8801" y="2629"/>
                  </a:lnTo>
                  <a:lnTo>
                    <a:pt x="7855" y="2629"/>
                  </a:lnTo>
                  <a:lnTo>
                    <a:pt x="7855" y="2032"/>
                  </a:lnTo>
                  <a:lnTo>
                    <a:pt x="7229" y="2032"/>
                  </a:lnTo>
                  <a:lnTo>
                    <a:pt x="7229" y="2629"/>
                  </a:lnTo>
                  <a:lnTo>
                    <a:pt x="6913" y="2629"/>
                  </a:lnTo>
                  <a:lnTo>
                    <a:pt x="6913" y="2032"/>
                  </a:lnTo>
                  <a:lnTo>
                    <a:pt x="5342" y="2032"/>
                  </a:lnTo>
                  <a:lnTo>
                    <a:pt x="5026" y="2629"/>
                  </a:lnTo>
                  <a:lnTo>
                    <a:pt x="4711" y="2032"/>
                  </a:lnTo>
                  <a:lnTo>
                    <a:pt x="4084" y="2032"/>
                  </a:lnTo>
                  <a:lnTo>
                    <a:pt x="4084" y="2629"/>
                  </a:lnTo>
                  <a:lnTo>
                    <a:pt x="3769" y="2629"/>
                  </a:lnTo>
                  <a:lnTo>
                    <a:pt x="3769" y="2032"/>
                  </a:lnTo>
                  <a:lnTo>
                    <a:pt x="2197" y="2032"/>
                  </a:lnTo>
                  <a:lnTo>
                    <a:pt x="2197" y="2338"/>
                  </a:lnTo>
                  <a:lnTo>
                    <a:pt x="2197" y="2629"/>
                  </a:lnTo>
                  <a:lnTo>
                    <a:pt x="1256" y="2629"/>
                  </a:lnTo>
                  <a:lnTo>
                    <a:pt x="1256" y="2032"/>
                  </a:lnTo>
                  <a:lnTo>
                    <a:pt x="941" y="2032"/>
                  </a:lnTo>
                  <a:lnTo>
                    <a:pt x="941" y="2629"/>
                  </a:lnTo>
                  <a:lnTo>
                    <a:pt x="310" y="2629"/>
                  </a:lnTo>
                  <a:lnTo>
                    <a:pt x="310" y="2032"/>
                  </a:lnTo>
                  <a:lnTo>
                    <a:pt x="0" y="20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4124160" y="1468440"/>
              <a:ext cx="2000160" cy="49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573" y="630"/>
                  </a:lnTo>
                  <a:lnTo>
                    <a:pt x="1889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4670280" y="223848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8444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630"/>
                  </a:lnTo>
                  <a:lnTo>
                    <a:pt x="942" y="630"/>
                  </a:lnTo>
                  <a:lnTo>
                    <a:pt x="942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0" y="630"/>
                  </a:lnTo>
                  <a:lnTo>
                    <a:pt x="2200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34131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936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4" y="630"/>
                  </a:lnTo>
                  <a:lnTo>
                    <a:pt x="2204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58323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91040" y="2700360"/>
              <a:ext cx="3855960" cy="425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3984480" y="273528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95440" y="4284720"/>
              <a:ext cx="3854520" cy="42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2289240" y="431640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21600" y="4284720"/>
              <a:ext cx="2147760" cy="47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6330960" y="433224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01960" y="490212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0" y="948"/>
                  </a:lnTo>
                  <a:lnTo>
                    <a:pt x="310" y="1575"/>
                  </a:lnTo>
                  <a:lnTo>
                    <a:pt x="942" y="1575"/>
                  </a:lnTo>
                  <a:lnTo>
                    <a:pt x="942" y="948"/>
                  </a:lnTo>
                  <a:lnTo>
                    <a:pt x="1257" y="948"/>
                  </a:lnTo>
                  <a:lnTo>
                    <a:pt x="1257" y="1575"/>
                  </a:lnTo>
                  <a:lnTo>
                    <a:pt x="2200" y="1575"/>
                  </a:lnTo>
                  <a:lnTo>
                    <a:pt x="2200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92400" y="488160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5" y="948"/>
                  </a:lnTo>
                  <a:lnTo>
                    <a:pt x="315" y="1575"/>
                  </a:lnTo>
                  <a:lnTo>
                    <a:pt x="631" y="1575"/>
                  </a:lnTo>
                  <a:lnTo>
                    <a:pt x="631" y="948"/>
                  </a:lnTo>
                  <a:lnTo>
                    <a:pt x="1257" y="948"/>
                  </a:lnTo>
                  <a:lnTo>
                    <a:pt x="1573" y="1575"/>
                  </a:lnTo>
                  <a:lnTo>
                    <a:pt x="1889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6560" y="4865760"/>
              <a:ext cx="903600" cy="590760"/>
            </a:xfrm>
            <a:custGeom>
              <a:avLst/>
              <a:gdLst/>
              <a:ahLst/>
              <a:rect l="0" t="0" r="r" b="b"/>
              <a:pathLst>
                <a:path w="2510" h="1641">
                  <a:moveTo>
                    <a:pt x="0" y="995"/>
                  </a:moveTo>
                  <a:lnTo>
                    <a:pt x="300" y="995"/>
                  </a:lnTo>
                  <a:lnTo>
                    <a:pt x="300" y="1641"/>
                  </a:lnTo>
                  <a:lnTo>
                    <a:pt x="621" y="1641"/>
                  </a:lnTo>
                  <a:lnTo>
                    <a:pt x="621" y="1010"/>
                  </a:lnTo>
                  <a:lnTo>
                    <a:pt x="1232" y="1010"/>
                  </a:lnTo>
                  <a:lnTo>
                    <a:pt x="1232" y="1641"/>
                  </a:lnTo>
                  <a:lnTo>
                    <a:pt x="2184" y="1641"/>
                  </a:lnTo>
                  <a:lnTo>
                    <a:pt x="2184" y="1015"/>
                  </a:lnTo>
                  <a:lnTo>
                    <a:pt x="2510" y="1015"/>
                  </a:lnTo>
                  <a:lnTo>
                    <a:pt x="2510" y="4"/>
                  </a:lnTo>
                  <a:lnTo>
                    <a:pt x="0" y="0"/>
                  </a:lnTo>
                  <a:lnTo>
                    <a:pt x="0" y="99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94940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392904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6813720" y="48420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Networking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127160" y="1728720"/>
            <a:ext cx="6891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-independent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API for client-side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facilities for improved operation in network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cilities for exploiting network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Should I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28640" y="1528920"/>
            <a:ext cx="76867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applications to Win32 AP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 minimum, ensure proper behavi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 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ing files with UNC paths, multiple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to network pr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messaging (File-&gt;S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mmon dialo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slow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read from/write to .INI files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ore services to gain competitive edge selling to networked custom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both “Chicago” and Windows 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Is Aimed At Network Us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76160" y="2071800"/>
            <a:ext cx="75913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sell 6-7 million copies in FY ’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Windows SKU for hardware O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 are network-rea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 network client capabilities in every copy of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ment Today In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2049480"/>
            <a:ext cx="670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s are not part of the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rovide minimal assistance for locking, ser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too low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documented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ssible to have one binary for multiple network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work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82720" y="2305080"/>
            <a:ext cx="37800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2c265"/>
                </a:solidFill>
                <a:latin typeface="Times New Roman"/>
                <a:ea typeface="Times New Roman"/>
              </a:rPr>
              <a:t>Three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rie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“WOS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1520" y="2081160"/>
            <a:ext cx="786276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proprietary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change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intimate knowledge of protocols,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and concepts not portable to other network platforms - limits target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2017800"/>
            <a:ext cx="838188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cross-platform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complete code rewrite to new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 in least common denominator functionality across network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rifices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s choice of language,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9120" y="2065320"/>
            <a:ext cx="756756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Win32 “WOSA”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native part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vendors provide specific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s can advertise their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 still use “sideband” APIs for vendor-specific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eaver</dc:creator>
  <dc:description/>
  <dc:language>en-US</dc:language>
  <cp:lastModifiedBy>shannon wheeler</cp:lastModifiedBy>
  <cp:revision>0</cp:revision>
  <dc:subject>SD94</dc:subject>
  <dc:title>Writing Win32 Apps for a network environment</dc:title>
</cp:coreProperties>
</file>