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3E734C-06B9-4DD6-8109-C0DCB1170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 clock cycles to switch between ring 0 and ring 3 (each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M file system parts of MS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y to put as much in ring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 MS-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r the 16 32 bi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ve some of dib engine to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ystem VM was a 16-bit DPMI client as in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31 exclusive DPMI to talk between 0 and 3 client.  We now  have new  interfaces to talk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not WIn32s has been written to be integrated with Chicago instead of not modifying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-bit apps are sync’d by messages.  Each 16-bit app is a thre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ytona will pre-emp.  16-bit apps in shared address space.  Allows win16 to b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32 apps.  pre-emptive and scheduled.  Any thread can call any API compatible to Win NT schedu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ry Win32 app has own memory context.  ring 0 knows about threads for scheduling and about memory context (every thread in the same process shares the same memory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mory context is a 2G address space.  This space is not visible anywhere else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 3 code handles scheduling compatible with Windows NT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s 32 priority levels that are exclusive to each other.  So if thread a is at a higher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doe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display driver work is done in the D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vendors d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nly have to write code to support key hardware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BitB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lnSpc>
                <a:spcPct val="90000"/>
              </a:lnSpc>
              <a:spcBef>
                <a:spcPts val="720"/>
              </a:spcBef>
              <a:spcAft>
                <a:spcPts val="1321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22520" y="492120"/>
            <a:ext cx="58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5960" y="4373640"/>
            <a:ext cx="61117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ammy Ste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s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28960" y="2494080"/>
            <a:ext cx="148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720" y="1728720"/>
            <a:ext cx="75963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for drawing 3-D windows and fram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nu support (default items, radio items, bitmap/icon items, and extended pop-up me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manager support for other font styles in RC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op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68480" y="1728720"/>
            <a:ext cx="520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system virtual machine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king/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se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60" y="4894200"/>
            <a:ext cx="8504280" cy="1519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59360" y="493884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5362560"/>
            <a:ext cx="4033800" cy="8888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364000"/>
            <a:ext cx="4010040" cy="9018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1480" y="5456160"/>
            <a:ext cx="3430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Protect mode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FAT, CDFS, SCSI,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65760" y="5464080"/>
            <a:ext cx="357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Virtual machine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, Scheduler, DPMI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187280"/>
            <a:ext cx="4549680" cy="3508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25440" y="1273320"/>
            <a:ext cx="28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 (System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5960" y="1185840"/>
            <a:ext cx="1839960" cy="351468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13440" y="23493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56280" y="1185840"/>
            <a:ext cx="1839960" cy="351792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3760" y="23511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828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2280" y="18921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4840" y="182880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7440" y="1828800"/>
            <a:ext cx="1665360" cy="267480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5000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98480" y="2052720"/>
            <a:ext cx="15811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8242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2280" y="29098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790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2280" y="3854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49600" y="23479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2080" y="24112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9600" y="33433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02080" y="342900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 V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1728720"/>
            <a:ext cx="8459640" cy="4170240"/>
          </a:xfrm>
          <a:prstGeom prst="rect">
            <a:avLst/>
          </a:prstGeom>
          <a:gradFill rotWithShape="0">
            <a:gsLst>
              <a:gs pos="0">
                <a:srgbClr val="db4c79"/>
              </a:gs>
              <a:gs pos="5000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81600" y="1165320"/>
            <a:ext cx="1324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0800" y="257328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46240" y="211284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32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216864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99080" y="211608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16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7120" y="217188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0" y="369720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0" y="477684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28720"/>
            <a:ext cx="0" cy="41482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5128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0836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9592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468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87680" y="3029040"/>
            <a:ext cx="1153800" cy="7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85880" y="4164120"/>
            <a:ext cx="120024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85880" y="4862520"/>
            <a:ext cx="1209600" cy="4190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2998800"/>
            <a:ext cx="1038240" cy="255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261120" y="5000760"/>
            <a:ext cx="1015920" cy="152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60560" y="45813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89640" y="327672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89640" y="519120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5440" y="2674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7560" y="2738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1040" y="277956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440" y="440388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7560" y="44895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5800" y="28987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8280" y="2962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35800" y="462276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88280" y="4708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454880" y="3701880"/>
            <a:ext cx="1054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hared address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16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0400" y="1500120"/>
            <a:ext cx="7962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ve tasking, same as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in16 application runs as a thread, providing for resource tracking in Ring 0 (VxDs) and Ring 3 (GDI and US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between applications occurs via mess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41320" y="1728720"/>
            <a:ext cx="7462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threads  are fully preem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thread can call an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handler on a separate thread  for 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he Schedu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27080" y="1576440"/>
            <a:ext cx="7091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 model:  32 priority level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compatible with existing Win16 applications, VDDs, and Vx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iority boosting with timed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inheritance bo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I Serialization -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0" y="1728720"/>
            <a:ext cx="6991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multithreaded OS must serialize som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ar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38360" y="3741840"/>
            <a:ext cx="58672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InsertObjectInList(OBJECT* pob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ectListHead = pobj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-&gt;pNext = pObjectListH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eave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rialization Of Windows 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6960" y="1195560"/>
            <a:ext cx="77500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ubsystem seri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 uses per-object locking allowing multiple clients to reenter using differ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 maintains a single lock for all APIs.  Only one thread at a time may be in a User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pplications (clients) and OS subsystems (servers) are on separate processes/threads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We’ll Talk 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6200" y="1657440"/>
            <a:ext cx="60530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GD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440" y="228600"/>
            <a:ext cx="903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0040" y="1728720"/>
            <a:ext cx="76057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s a global system-critical section for all Win16 components called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unking from 32-bit to 16-bit code, “Chicago” always attempts to claim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urrent thread cannot own it (because another thread does), it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47880" y="1424160"/>
            <a:ext cx="7248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16-bit code is protected, including third-party DL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core components stay small and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 is ensured by not changing API ordering and 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threads calling native 32-bit API do not block on Win16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720" y="1728720"/>
            <a:ext cx="7594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at any lack of smoothness in multitasking caused by the Win16Lock will only be due to ill-behaved Win16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th only Win32 applications  will not be affected by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ll is a 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GDI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7360" y="228600"/>
            <a:ext cx="836928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 Modul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3480" y="1554120"/>
            <a:ext cx="547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ystem resource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ongr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duce 64K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04800" y="1803240"/>
            <a:ext cx="61340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eap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object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management structure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s still in 64K he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object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0" y="2682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06720" y="1033560"/>
            <a:ext cx="5000760" cy="5270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1b15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06720" y="1814400"/>
            <a:ext cx="3162240" cy="9716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06720" y="3033720"/>
            <a:ext cx="2362320" cy="78120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62360" y="3014640"/>
            <a:ext cx="244476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06720" y="4906800"/>
            <a:ext cx="4983120" cy="731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IB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06720" y="5886360"/>
            <a:ext cx="2286000" cy="64764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0" y="5886360"/>
            <a:ext cx="2481120" cy="62856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87400" y="168588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46800" y="1814400"/>
            <a:ext cx="1660680" cy="99072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2240" y="3948120"/>
            <a:ext cx="250524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87400" y="291924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87400" y="576432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itmaps And DIB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76200" y="1111320"/>
            <a:ext cx="65930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distinction of bitmaps and D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 - device-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s - device-independ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DIB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BSection() - creates a DIB that both applications and GDI can writ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68480" y="1484280"/>
            <a:ext cx="5208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32-bit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the fastest software-onl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4, 8, 16 (555), 24 (RGB) bpp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forward to add other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play Mini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75000" y="1700280"/>
            <a:ext cx="55278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best wit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linear frame 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bus vide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ill have for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st, best driver for frame buffers,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 for hardware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120" y="1486080"/>
            <a:ext cx="1897200" cy="95256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120" y="2657520"/>
            <a:ext cx="1897200" cy="7714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94000" y="3618000"/>
            <a:ext cx="1724040" cy="974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544840"/>
            <a:ext cx="25830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48355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5016600"/>
            <a:ext cx="1905120" cy="138420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1800" y="3452760"/>
            <a:ext cx="0" cy="153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3452760"/>
            <a:ext cx="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9800" y="459576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vantages Of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366920"/>
            <a:ext cx="71629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 DDI without requiring new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Wide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s no longer dependent on quality of displa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obust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add new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90560" y="1506600"/>
            <a:ext cx="7562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s problems with current raster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cated glyphs, such as 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fide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ore .FO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boot with lots o’ fo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rueType</a:t>
            </a:r>
            <a:r>
              <a:rPr b="1" lang="en-US" sz="3600" spc="-1" strike="noStrike" baseline="50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asteriz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ongruence Of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67080" y="1768320"/>
            <a:ext cx="4211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th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46040" y="1733400"/>
            <a:ext cx="64533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32 path APIs have been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es:  Lineto, Moveto, and PolyBezier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ezi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65200" y="1676520"/>
            <a:ext cx="621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Windows NT code to 386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3160" y="1211400"/>
            <a:ext cx="75391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metafiles “lingua fran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nhanced metafile API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support of world trans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 records “Chicago” does not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metafile converter to Windows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924200" y="228600"/>
            <a:ext cx="579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hanced 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9360" y="1604880"/>
            <a:ext cx="6784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with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produce drawing from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back is original siz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transform s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regions scale and work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 scale better than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itions To Windows NT G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87480" y="1692360"/>
            <a:ext cx="5370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-styled l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thered pens and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32-bit internals and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ked b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-grained reentr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7720" y="1036800"/>
            <a:ext cx="8190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dows NT GDI has but “Chicago” doe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771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4280" y="5219640"/>
            <a:ext cx="34290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93720" y="228600"/>
            <a:ext cx="775656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ing 3 Relative Code Distribu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338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7340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714680"/>
            <a:ext cx="0" cy="4881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878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80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50800" y="521820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6080" y="5638680"/>
            <a:ext cx="34560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ervices, synchronization objects, memory management, memory-mapped files, file I/O, debug services, console, comm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71920" y="2643120"/>
            <a:ext cx="2057400" cy="3049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51200" y="2625840"/>
            <a:ext cx="19288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24200" y="4362480"/>
            <a:ext cx="1905120" cy="763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1040" y="3686040"/>
            <a:ext cx="290052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55800" y="368460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1480" y="4067280"/>
            <a:ext cx="3057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Type rasterizer, print subsystem, spooler, universal graphics engine (DIB engin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57680" y="5934240"/>
            <a:ext cx="18288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5840" y="5753160"/>
            <a:ext cx="406440" cy="36360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b4c7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78600" y="571356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2452680"/>
            <a:ext cx="1238400" cy="60012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af3c6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85880" y="256068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9320" y="2109960"/>
            <a:ext cx="32004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86640" y="212256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45240" y="2538360"/>
            <a:ext cx="297036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window and menu management services, plus new features (async input model, new styles, etc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29320" y="3686040"/>
            <a:ext cx="251460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42200" y="369396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808600" y="4067280"/>
            <a:ext cx="215748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1 graphics management, plus new Bezier, path, EMF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03640" y="5602320"/>
            <a:ext cx="116532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e 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 Of New Use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1652760"/>
            <a:ext cx="5716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in32 APIs to support new us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8520" y="1500120"/>
            <a:ext cx="6548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2K menu and window handles (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imers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mited number of COM and LPT 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box item limits raise from 8K to 32K, with data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7120" y="1195560"/>
            <a:ext cx="789156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obust parameter vali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32-bit or 16-bit process or thread ID is used for object ownership of Ring 3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version 4.0-marked 16-bit applications have unfreed resources cleared at application  termin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x-based application resources are cleared when “Chicago” determines no other Windows 3.x-based applications are ru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60360" y="968400"/>
            <a:ext cx="662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ing 3 objects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ck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11440" y="1368360"/>
            <a:ext cx="57214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Mem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sh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Contex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t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3986280"/>
            <a:ext cx="6729480" cy="0"/>
          </a:xfrm>
          <a:prstGeom prst="line">
            <a:avLst/>
          </a:prstGeom>
          <a:ln w="25560">
            <a:solidFill>
              <a:srgbClr val="ffd1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3280" y="36050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3280" y="4057560"/>
            <a:ext cx="61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User API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90520"/>
            <a:ext cx="429732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ebugError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ssageBox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Window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Prop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stThread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Call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Time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Notify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mat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ttachThread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Thread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003560" y="1185840"/>
            <a:ext cx="460224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From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In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Ic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kupIconIDFrom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ctivate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boardLayou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indowFrom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MDI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ForInputI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sgWaitForMultiple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760" y="1728720"/>
            <a:ext cx="817884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inimized window 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Metrics, SM_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trol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 buttons, thumbsize of scroll b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support for context-sensitive     Help and message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my Steele</dc:creator>
  <dc:description>600x800</dc:description>
  <dc:language>en-US</dc:language>
  <cp:lastModifiedBy>shannon wheeler</cp:lastModifiedBy>
  <cp:revision>0</cp:revision>
  <dc:subject>SD 94</dc:subject>
  <dc:title>Windows "Chicago" Architecture</dc:title>
</cp:coreProperties>
</file>